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4C3-4EF6-45A1-A5EC-1062CA79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8D8C-F36A-49B9-8822-E823FFB4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E4D-E169-4B10-8BBA-E748B54B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6E0-910A-4FA0-83A3-626C5790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80AC-209B-4120-800A-0F373D20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B511-A614-456B-AC78-E953803B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1331-498D-4410-89A7-E3D72687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68FB-2FC5-4EE4-8CAE-72569E33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87F7-49E7-4A02-B19F-45DB7C36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79B1-7BBB-46F7-83AE-694E7E61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59EE-0D40-4604-B31B-CCE3CD4D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7FEA-5594-408C-8104-6A6B077D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CE01-46A5-4143-804F-80EE7C83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129C-5F73-4C27-9ED7-DF1E2A23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6017-66C1-46B5-ACC0-8ED0FC0C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0C78-3A47-48C7-A738-CEE04633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DE70-1EF1-4A50-BFA2-565B3C11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5C7-903A-4B9D-A65C-1AC8140E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740-7B82-4979-9CE6-90B02327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8CF0-865B-4980-B0E6-F1F6E410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F79-D802-4A17-90BA-4741DD16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D865-DEF3-4856-A000-87033A97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ECB-3A8F-4D43-83E9-6873D440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B01C-1F4E-4D97-81C2-4AC2B67C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7AEB-2849-4F33-8D92-CD6B0F481303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8FCB-DF5F-4588-BF3D-06B2131C48EB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Windows Movie Maker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/6-12/Session 3 of 3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shop Titl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tudents will share the following aspects of their project: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212164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Explain how the choices you have made regarding the video effects and audio have enhanced your movi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212164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Why did you make these particular choices?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e have seen how the choices we make as editors can effect the story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e have observed how title sequences, video effects, and transitions can add to or subtract from the overall impact of a movie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import audio and add audio effects in </a:t>
            </a:r>
            <a:r>
              <a:rPr b="0" lang="en-US" sz="3200" spc="-1" strike="noStrike">
                <a:solidFill>
                  <a:srgbClr val="212164"/>
                </a:solidFill>
                <a:latin typeface="Lucida Grande"/>
              </a:rPr>
              <a:t>Windows Movie Maker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share our movies with other peopl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do we add video effects to our movie clip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udio, whether it is from a CD, or a computer recording has the ability to enhance dramatic moments in a movi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ce a movie is created there are many different methods of distributio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t can be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isplayed on a websit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ent via emai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viewed on a comput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burned on a DV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Video effects can be used to alter a clip. Effects can be used to alter the speed of the clip, add special effects to the clip, or turn a clip to black and whit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at are possible sources of digital audio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microphone (built into the computer or external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line downloa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C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’s skill will focus on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mporting audio into </a:t>
            </a:r>
            <a:r>
              <a:rPr b="0" lang="en-US" sz="2800" spc="-1" strike="noStrike">
                <a:solidFill>
                  <a:srgbClr val="212164"/>
                </a:solidFill>
                <a:latin typeface="Lucida Grande"/>
              </a:rPr>
              <a:t>Windows Movie Mak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video effect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aving the movie in a format everyone can view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Lucida Grande"/>
              </a:rPr>
              <a:t>(see the tutorial for specific instruction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    </a:t>
            </a: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Take the next 30 minutes to import still images. Add titles, video effects (if necessary) and transitions to your movies. After 30 minutes we will come back together and shar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2164"/>
                </a:solidFill>
                <a:latin typeface="Lucida Grande"/>
              </a:rPr>
              <a:t>Participant Activity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Import digital pictures into Movie Maker and include two pictures in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Add video effects, titles, and transitions to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599"/>
              </a:spcAft>
              <a:buClr>
                <a:srgbClr val="212164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ave your Movie Maker projec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599"/>
              </a:spcAft>
              <a:buClr>
                <a:srgbClr val="212164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hare (export) your Movie Maker projec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2:24:10Z</dcterms:created>
  <dc:creator>NYCD DOE</dc:creator>
  <dc:description/>
  <dc:language>en-US</dc:language>
  <cp:lastModifiedBy>NYCD DOE</cp:lastModifiedBy>
  <dcterms:modified xsi:type="dcterms:W3CDTF">2007-03-11T18:39:28Z</dcterms:modified>
  <cp:revision>20</cp:revision>
  <dc:subject/>
  <dc:title>Workshop Title</dc:title>
</cp:coreProperties>
</file>